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36B-DBE1-4CC8-BE27-B4F47934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A75-620B-4216-8730-12E7AC44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62D-CCB6-4ECB-8828-11E165B9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4FD-1356-4C8F-98C3-DE1AAFBF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49D-0D74-4A44-9E76-03A2BDAD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D67C-6B86-46E6-B258-4E2004D1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745B-F847-4624-8F21-CF617AAE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327F-5A69-49F5-8B76-92A9D78F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D7FA-5065-4A15-9068-8D1E5557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3BF7-7A3B-47FA-B0F0-23F4AFA0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7BB3-5F0F-4C58-A6AA-9A7AFE1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778-807E-4544-BCD5-154CE0AB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EA2B-E7A9-424D-9134-D860A41B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391B-5596-4790-A7FC-334915CF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A096-130D-4E30-8C2A-74214472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ADB6-3B58-4666-835E-B79FCB0B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BDA4-CA67-4D5B-A237-7506D123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077-CCFD-4D99-8EDB-4E20CCD1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1A0-6156-445F-AA44-DC4E1410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ADC-7FDE-4D03-872E-9A755FF5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097-96D6-4ADB-8208-35551D65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E3C-4DF0-45C6-8D04-3131D3B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8A8-5363-42E3-9613-691141F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1F7-8019-4D09-B384-E19B770E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6AC7-67F2-4AB9-AFF6-D34C66DB5C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FF6C-56AE-475F-A63A-01C0AECA9A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39: The Stormy Sixties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Missile Cris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ial photographs of Cuba showed that Soviets were installing nuclear missiles in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weapons to blackmail US into backing down in Berlin &amp; elsewhe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FK orders naval quarantine of Cuba &amp; demanded immediate removal of threatening weapon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ld Khrushchev that any attack on US from Cuba would be seen as attack by USSR &amp; would trigger retaliation against USS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Missile Cris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waited while USSR ships approached patrol line established by US na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ba prepared to launch nuclear weapons if attack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. 28, 1962: Khrushchev agrees to pull missiles out of Cub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agrees to end quarantine in Cub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also agrees to remove missiles in Turke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SR humiliated, launches program of military expa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06_01474139"/>
          <p:cNvPicPr/>
          <p:nvPr/>
        </p:nvPicPr>
        <p:blipFill>
          <a:blip r:embed="rId1"/>
          <a:stretch/>
        </p:blipFill>
        <p:spPr>
          <a:xfrm>
            <a:off x="0" y="0"/>
            <a:ext cx="5486400" cy="354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s_c03_10231624"/>
          <p:cNvPicPr/>
          <p:nvPr/>
        </p:nvPicPr>
        <p:blipFill>
          <a:blip r:embed="rId2"/>
          <a:stretch/>
        </p:blipFill>
        <p:spPr>
          <a:xfrm>
            <a:off x="0" y="3656160"/>
            <a:ext cx="4867200" cy="320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s_c07_10220122"/>
          <p:cNvPicPr/>
          <p:nvPr/>
        </p:nvPicPr>
        <p:blipFill>
          <a:blip r:embed="rId3"/>
          <a:stretch/>
        </p:blipFill>
        <p:spPr>
          <a:xfrm>
            <a:off x="4876920" y="3573360"/>
            <a:ext cx="4267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962_cuban_missile"/>
          <p:cNvPicPr/>
          <p:nvPr/>
        </p:nvPicPr>
        <p:blipFill>
          <a:blip r:embed="rId1"/>
          <a:stretch/>
        </p:blipFill>
        <p:spPr>
          <a:xfrm>
            <a:off x="304920" y="533520"/>
            <a:ext cx="86835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campaigned w/ strong appeal to black vo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edom Ri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d sit-in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to end segregation on interstate b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ten ended violent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marshals sent to protect Freedom Ri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ANd9GcRuaDeSkD136Cl4EF-WwKHgiGu7zYWKaJxWCJNqQnH7TqdQgRTE"/>
          <p:cNvPicPr/>
          <p:nvPr/>
        </p:nvPicPr>
        <p:blipFill>
          <a:blip r:embed="rId1"/>
          <a:stretch/>
        </p:blipFill>
        <p:spPr>
          <a:xfrm>
            <a:off x="6705720" y="5342040"/>
            <a:ext cx="24382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gregation- JFK sent troops to University of Mississippi to integrat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led protest in Birmingham, AL (most segregated big city in U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ceful civil rights marchers met violence (water ho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gives public speech, commits himself to finding a 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Screen%20shot%202010-03-17%20at%209"/>
          <p:cNvPicPr/>
          <p:nvPr/>
        </p:nvPicPr>
        <p:blipFill>
          <a:blip r:embed="rId1"/>
          <a:stretch/>
        </p:blipFill>
        <p:spPr>
          <a:xfrm>
            <a:off x="7238880" y="558792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tin Luther King, Jr. 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“March on Washington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support of JFK proposed legis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gives “I have a dream” speech from the Lincoln mem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gar E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url"/>
          <p:cNvPicPr/>
          <p:nvPr/>
        </p:nvPicPr>
        <p:blipFill>
          <a:blip r:embed="rId1"/>
          <a:stretch/>
        </p:blipFill>
        <p:spPr>
          <a:xfrm>
            <a:off x="5181480" y="3852720"/>
            <a:ext cx="3962520" cy="300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king"/>
          <p:cNvPicPr/>
          <p:nvPr/>
        </p:nvPicPr>
        <p:blipFill>
          <a:blip r:embed="rId2"/>
          <a:stretch/>
        </p:blipFill>
        <p:spPr>
          <a:xfrm>
            <a:off x="3460680" y="4419720"/>
            <a:ext cx="173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Assassi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ember 22, 196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shot by concealed rifleman &amp; died w/in seconds in Dallas,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ged assassin: Lee Harvey Oswa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t in front of TV cameras by Jack Ru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ts &amp; theories about what really happen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nned nation griev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JFK-and-Jackie-in-Dallas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347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LHO9"/>
          <p:cNvPicPr/>
          <p:nvPr/>
        </p:nvPicPr>
        <p:blipFill>
          <a:blip r:embed="rId2"/>
          <a:stretch/>
        </p:blipFill>
        <p:spPr>
          <a:xfrm>
            <a:off x="2286000" y="3833640"/>
            <a:ext cx="4419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76320"/>
          <a:ext cx="8534520" cy="678168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was elected to Congress in 18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was elected to Congress in 19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elected President in 18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elected President in 19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 wife lost a child while living in the White Hous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 wife lost a child while living in the White Hous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directly concerned with Civil Righ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directly concerned with Civil Righ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had a secretary named Kennedy who told him not to go to the theater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had a secretary named Lincoln who told him not to go to Dallas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was shot in the back of the head in the presence of his w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was shot in the back of the head in the presence of his w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shot in the Ford Theatr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shot in a Lincoln, made by For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shot on a Frid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shot on a Frid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assin, John Wilkes Booth, was known by three names, comprised of fifteen lette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assin, Lee Harvey Oswald, was known by three names, comprised of fifteen lette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th shot Lincoln in a theater and fled to a warehouse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wald shot Kennedy from a warehouse and fled to a theat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th was killed before being brought to tr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wald was killed before being brought to tr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 were theories that Booth was part of a greater conspirac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 were theories that Oswald was part of a greater conspirac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's successor was Andrew Johnson, born in 18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's successor was Lyndon Johnson, born in 19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New Fronti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est president ever el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 &amp; bright men surrounded Kenn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Front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Peace Cor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not what your country can do for you, but what you can do for your countr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jackie_kennedy"/>
          <p:cNvPicPr/>
          <p:nvPr/>
        </p:nvPicPr>
        <p:blipFill>
          <a:blip r:embed="rId1"/>
          <a:stretch/>
        </p:blipFill>
        <p:spPr>
          <a:xfrm>
            <a:off x="4267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assination Afterma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P Johnson is sworn in as president promp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is acclaimed for the spirit he kindled rather than the concrete goals he achie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captivated Ame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lbj_and_jfk"/>
          <p:cNvPicPr/>
          <p:nvPr/>
        </p:nvPicPr>
        <p:blipFill>
          <a:blip r:embed="rId1"/>
          <a:stretch/>
        </p:blipFill>
        <p:spPr>
          <a:xfrm>
            <a:off x="5105520" y="3992400"/>
            <a:ext cx="40384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yndon B. Johns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ws to honor JFK by passing Civil Rights Bill that he fought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vil Rights Act of 1964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nned racial discrimination in private facilities open to 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ed gov. power to end 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Equal Employment Opportunity Commis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 enforced gender equ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on Povert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Society- sweeping set of economic &amp; welfare measures aimed at transforming American way of li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ion of 196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at: LB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: Barry Gold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ked federal income tax, social security, TVA, civil rights, Great 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BJ w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 legacy, Great Society, fear of Gold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7370640" y="4495680"/>
            <a:ext cx="1773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8664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at Society Congres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od of legis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ubled appropriation of Office of Economic Opport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artment of Transportation &amp; Department of Housing and Urban Develop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g fou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5144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d to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5144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al care for elde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5144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igration re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5144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voting rights bil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at Society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re &amp; Medicaid, 19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mmigration and Nationality Act of 1965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bolished national origins quota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number of immigrants allowed to enter US annual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ifts from Europe to Latin America &amp; A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ing for Black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oting Rights Act of 19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utlawed discriminatory voting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 tax, literacy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ivil Rights Act of 196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ve federal government more power to enforce school desegregation &amp; prohibit racial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- abolished poll tax in federal e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ing for Black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dom Summer of 1964- register as many African American voters in Mississip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led voter-registration campaign in 1965 in Selma, Alab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 w/ violence- tear gas &amp; w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rimination did not end overnight, but change was n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southerners now had more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ing “We Shall Overcom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697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Power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phase of black strug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d by militant confron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lcolm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ached black separat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l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t in 1965 by rival Nation of Islam in NY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at of violence arose in black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6765840" y="0"/>
            <a:ext cx="237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New Fronti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assistance for eld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federal aid to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 resistance in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ax-cut b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 resistance from big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billion dollar project to land America on the m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ST-C22-1-62"/>
          <p:cNvPicPr/>
          <p:nvPr/>
        </p:nvPicPr>
        <p:blipFill>
          <a:blip r:embed="rId1"/>
          <a:stretch/>
        </p:blipFill>
        <p:spPr>
          <a:xfrm>
            <a:off x="7077240" y="2438280"/>
            <a:ext cx="2066760" cy="211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220px-JohnFK"/>
          <p:cNvPicPr/>
          <p:nvPr/>
        </p:nvPicPr>
        <p:blipFill>
          <a:blip r:embed="rId2"/>
          <a:stretch/>
        </p:blipFill>
        <p:spPr>
          <a:xfrm>
            <a:off x="5181480" y="5105520"/>
            <a:ext cx="1433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Po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ck Pant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arty that openly carried weapons &amp; sought to achieve black power through vio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kely Carmich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ck Power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ncreased fears of wh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ome insisted they only wanted civil right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eparatist meaning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Emphasized African American distinctivenes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fro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hed “white” names for new African identiti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Demanded black studies program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63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Po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riots erupted around the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focused more on economic de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ck unemployment rate double that for wh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4, 1968- MLK shot &amp; killed in Memp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tyr for jus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bed Americans of truly inspirational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violence in anger of his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105680" y="3962520"/>
            <a:ext cx="20383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LK leg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ter registration in south shot up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hundred blacks elected to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972, ½ of black children sat in integrated classr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 of black families rose to middl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al pro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5791320" y="4627440"/>
            <a:ext cx="33526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ion of 1968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bert Kennedy campaigned for Democratic nomination, k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at: Hubert H. Humphrey (LBJ V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BJ does not run: lost popularity due to Vietn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: Richard Nix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to restore law &amp;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ed to white southern vo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Independent Party: George C. Wal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ion of 1968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xon w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ried not a single major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ed his election to divisions over the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ace: largest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ty popular vote in US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038480" y="4522680"/>
            <a:ext cx="43434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ituary of LBJ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ed to his TX ranch in 1969, died 4 yrs. l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resident since Lincoln had done so much for civil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ssion for poor, blacks, &amp; ill-educ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’s presiden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popularity b/c of Viet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7086600" y="4073400"/>
            <a:ext cx="2057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 on the Mo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hy, some say, the moon?... And they may well ask, why climb the highest mountain? Why, thirty-five years ago, fly the Atlantic? Why does Rice play Texas?”- John F. Kenne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neil-armstrong-on-the-moon1"/>
          <p:cNvPicPr/>
          <p:nvPr/>
        </p:nvPicPr>
        <p:blipFill>
          <a:blip r:embed="rId1"/>
          <a:stretch/>
        </p:blipFill>
        <p:spPr>
          <a:xfrm>
            <a:off x="4114800" y="3645000"/>
            <a:ext cx="32623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 on the Mo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mall step for man; one giant leap for mankin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220px-Neil_Armstrong_pose"/>
          <p:cNvPicPr/>
          <p:nvPr/>
        </p:nvPicPr>
        <p:blipFill>
          <a:blip r:embed="rId1"/>
          <a:stretch/>
        </p:blipFill>
        <p:spPr>
          <a:xfrm>
            <a:off x="1066680" y="2971800"/>
            <a:ext cx="3054600" cy="388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1101681206_400"/>
          <p:cNvPicPr/>
          <p:nvPr/>
        </p:nvPicPr>
        <p:blipFill>
          <a:blip r:embed="rId2"/>
          <a:stretch/>
        </p:blipFill>
        <p:spPr>
          <a:xfrm>
            <a:off x="5105520" y="3124080"/>
            <a:ext cx="28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in Eur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s construct Berlin Wall, August 19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to prevent population drain from East to West Germ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ized division of Europ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turns attention to Western Eur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 Expansion Act- authorizes tariff cuts up to 50 percent to promote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Market: free-trade area later called European Un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berlin-wall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ible Respon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for US foreign policy arose from worldwide decolonization after WW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Congo received independence from Belgium, 19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sends peacekeeping fo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provided money to Laos to prevent communism, f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le Response=developing an array of military options that could be matched w/ the gravity of crisis at h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Confrontat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lliance for Progress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Marshall Plan for Latin America) Help LA close gap between rich &amp; poor, quieting communist agg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y of Pigs Invas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me to topple Castro from power by invading Cuba w/ anticommunist ex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ked by trained &amp; armed Amer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ril 17, 1961- 1200 exiles landed @ Cuba’s Bay of Pi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match for Castro’s fo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met by popular uprising in Cu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iled invasion- exiles sent to prison &amp; eventually ranso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FK took full responsibility for fail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300px-BayofPigs"/>
          <p:cNvPicPr/>
          <p:nvPr/>
        </p:nvPicPr>
        <p:blipFill>
          <a:blip r:embed="rId1"/>
          <a:stretch/>
        </p:blipFill>
        <p:spPr>
          <a:xfrm>
            <a:off x="5486400" y="5516640"/>
            <a:ext cx="3657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6:43:56Z</dcterms:created>
  <dc:creator>emily.johnson</dc:creator>
  <dc:description/>
  <dc:language>en-US</dc:language>
  <cp:lastModifiedBy>emily.johnson</cp:lastModifiedBy>
  <dcterms:modified xsi:type="dcterms:W3CDTF">2013-04-15T12:21:52Z</dcterms:modified>
  <cp:revision>13</cp:revision>
  <dc:subject/>
  <dc:title>Chapter 39: The Stormy Sixties </dc:title>
</cp:coreProperties>
</file>